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-103320" y="3240"/>
          <a:ext cx="705816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320" y="3240"/>
                    <a:ext cx="705816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5791680" y="345276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02840" y="482616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2840" y="550692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1520" y="5796000"/>
            <a:ext cx="41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6800" y="5460840"/>
            <a:ext cx="373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17600" y="3906720"/>
            <a:ext cx="1620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200" y="7562880"/>
            <a:ext cx="1515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348-58776 DTD 28JUN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8280" y="6794640"/>
            <a:ext cx="1352520" cy="610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4520" y="6858000"/>
            <a:ext cx="137628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6280" y="877572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A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4920" y="1765440"/>
            <a:ext cx="12394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. DATE:  28 JUN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103320" y="3240"/>
          <a:ext cx="705816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320" y="3240"/>
                    <a:ext cx="705816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860440" y="345276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0440" y="482616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49280" y="550692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1520" y="5796000"/>
            <a:ext cx="41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6440" y="5322960"/>
            <a:ext cx="373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417600" y="3906720"/>
            <a:ext cx="1620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200" y="7562880"/>
            <a:ext cx="1515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348-58761 DTD 28JUN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48280" y="6794640"/>
            <a:ext cx="1352520" cy="610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6858000"/>
            <a:ext cx="14526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280" y="885204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A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08840" y="1868400"/>
            <a:ext cx="12394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. DATE:  28 JUN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440" y="227160"/>
            <a:ext cx="6734160" cy="83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1.  PROC.  INSTRUMENT  ID  (CONTRACT)  ORDER NO  6.  INVOICE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                    DAFI01 ** C 4612                  8.  ACPT PT: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3.  DATE SHIPPED      4. B/L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56-*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24 JUN **                                            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RIME CONTRACTOR          CODE           10.   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EROX CORPORATION                                CONTRACTING &amp; PROCUREMENT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02 CENTRAL AVE. 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LLAS, TX 762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12. 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TTN:  ACCOUNTS PAYABLE BRANCH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DESCRIPTION BE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  17. QUANTITY*  18.      19.           20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NDICATE # OF SHIPPING CONTAINERS)       SHIP/REC’D    UNIT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01  GENERAL MAINTENANCE FOR OFFICE COPIERS          1        MO        $259.95     $259.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TED IN BLDG 482, ROOMS 101 &amp; 10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INTENANCE OF COPIERS WILL 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FORMED ONCE MONTHLY UNLESS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PAIRS ARE NECESSARY. THIS MAINTE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GREEMENT IS IN EFFECT FOR THE PERIO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JUN-31 MAY **.  COPIER MODELS AR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OM 101 XEROX 2060, SERIAL # 2582-TR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678 ROOM 105 XEROX 4590, SERIAL 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81098-GW-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 PROCUREMENT QUALITY ASSURANCE                               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5 JU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**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Lucida Handwriting"/>
              </a:rPr>
              <a:t>PAUL ELLI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S.                       SUPPORTING DOCUMENTS             DATE REC  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Script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Script"/>
              </a:rPr>
              <a:t>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Script"/>
              </a:rPr>
              <a:t>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Script"/>
              </a:rPr>
              <a:t>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SIG.OF AUTH REP.      DATE     SIG. OF AUTH GOVT REP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Q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880" y="8597880"/>
            <a:ext cx="2772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40" y="685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150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21200" y="5335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440" y="10666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40" y="1752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440" y="31240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6880" y="24382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440" y="34290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40" y="5486400"/>
            <a:ext cx="670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840" y="5587920"/>
            <a:ext cx="671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7772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560700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94400"/>
            <a:ext cx="0" cy="21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3160" y="890748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69343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228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8440" y="69343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1800" y="8674200"/>
            <a:ext cx="245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343400"/>
            <a:ext cx="1523880" cy="749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432320"/>
            <a:ext cx="1900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9680" y="8597880"/>
            <a:ext cx="60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6 A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40" y="227160"/>
            <a:ext cx="6765480" cy="847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1.  PROC.  INSTRUMENT  ID  (CONTRACT)  ORDER NO  6.  INVOICE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                    DAFI01 ** M 8194                  8.  ACPT PT: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3.  DATE SHIPPED      4. B/L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52-*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JUN **                                         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RIME CONTRACTOR           CODE           10.  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MITH &amp; CORONA INC.                              CONTRACTING &amp; PROCUREMENT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21 LUDLOW STREET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ICHMOND HILL, GA 313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12. 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TTN:  ACCOUNTS PAYABLE BRANCH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RECTOR, LOGISTICS DIVI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: 6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17. QUANTITY*    18.       19.           2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DICATE # OF SHIPPING CONTAINERS)    SHIP/REC’D      UNIT  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01     SMITH &amp; CORONA WORD PROCESSOR           5            EA       $259.75      $1,299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L # 289-WP-459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02     WORD PROCESSOR PRINTER RIBBONS         15            EA          9.75        $146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RIAL # 0257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PROCUREMENT QUALITY ASSURANCE                                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        30 JUN **   </a:t>
            </a: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I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                         SUPPORTING DOCUMENT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REC  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JIM MO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JUL**    </a:t>
            </a: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RAY BELL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IE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SIG. OF AUTH REP.        DATE    SIG. OF AUTH GOVT REP  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A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880" y="8597880"/>
            <a:ext cx="2772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440" y="685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9360" y="533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440" y="10666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440" y="1752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40" y="31240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24382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40" y="34290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440" y="5486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320" y="555588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40" y="5562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440" y="7772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4440" y="64008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6560" y="6400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3160" y="890748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440" y="6858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5960" y="68580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8440" y="6858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01960" y="6858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02840" y="875016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6840" y="4425840"/>
            <a:ext cx="1517760" cy="67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45259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6480" y="4470480"/>
            <a:ext cx="176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7040" y="8750160"/>
            <a:ext cx="6067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6 A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-272880" y="-217440"/>
          <a:ext cx="7394400" cy="956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2880" y="-217440"/>
                    <a:ext cx="7394400" cy="956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11680" y="1203480"/>
            <a:ext cx="585828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FI01-**-M-4164                                                                        21 MAY **                PRC 0588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CONTRACTING &amp;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 INF                                                                                                                                                                 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0240" y="2209680"/>
            <a:ext cx="494244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OLSTON COMPUTER FURNITURE                                                                        15 JUN 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01 HOLSTON DRIVE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EMBROKE, GA 31321                                                                                                 2/10, N/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5480" y="3108240"/>
            <a:ext cx="49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INFORMATION MGMT               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498                                                                                          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                            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3640" y="3906720"/>
            <a:ext cx="2545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040" y="4778280"/>
            <a:ext cx="3378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03-3116 117096.Z0-26EB W91INF*1644164/1F8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600" y="5486400"/>
            <a:ext cx="669168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             COMPUTER SYSTEMS STATION STORAGE SHELF                            10             EA              $833.00                  $8,3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NITOR SHELF, KEYBOARD SHELF, AND PRI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HELF, WITH PAPER CATCHER AND SUPPLY SHEL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8,3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9480" y="7804080"/>
            <a:ext cx="2161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JUL **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FRED B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0080" y="7883640"/>
            <a:ext cx="2451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080" y="8675640"/>
            <a:ext cx="1216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AY DEARBO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52960" y="8732880"/>
            <a:ext cx="7282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51680" y="8913960"/>
            <a:ext cx="288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63720" y="6246720"/>
            <a:ext cx="1336680" cy="568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4800" y="6256440"/>
            <a:ext cx="150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28920" y="7245360"/>
            <a:ext cx="954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0520" y="8991720"/>
            <a:ext cx="57276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A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8400" y="8999640"/>
            <a:ext cx="546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24080" y="7095960"/>
            <a:ext cx="902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-228600"/>
          <a:ext cx="6858000" cy="955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6858000" cy="9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560" y="1182600"/>
            <a:ext cx="50374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F-2701                                          0001            15 MAY **                       PRC 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520" y="1424160"/>
            <a:ext cx="6567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OR, CONTRACTING &amp; PROCUREM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30600" y="2279520"/>
            <a:ext cx="463500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SON OFFICE EQU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42 OSCAR DR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NET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ING, PA 32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360" y="2948040"/>
            <a:ext cx="558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80" y="3044880"/>
            <a:ext cx="4859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OR, INFORMATION MGMT                            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498                                                                         ACCOUNT PAYABLE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                                          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" y="4678200"/>
            <a:ext cx="3186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7x4930.AC27 76 W91IMO*1560391 S09076 APC: 9SF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9720" y="5477040"/>
            <a:ext cx="628272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001         30’ ADJUSTABLE  TERMINAL STATIONS                          10           EA        443.95                $4,43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 # 234- T- 98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002         PRINTER STAND WITH 3” X 19’ PAPER SLOT, AND         2           EA        169.83                    $339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R PAPER CATCHER BASKET. MODEL 3 148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88080" y="6934320"/>
            <a:ext cx="7369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4, 779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9000" y="7790040"/>
            <a:ext cx="27730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JUL **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FRED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4560" y="7842240"/>
            <a:ext cx="3758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2880" y="8672400"/>
            <a:ext cx="21830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cript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RAY DEARBORN</a:t>
            </a:r>
            <a:r>
              <a:rPr b="0" lang="en-US" sz="900" spc="-1" strike="noStrike">
                <a:solidFill>
                  <a:srgbClr val="000000"/>
                </a:solidFill>
                <a:latin typeface="Script"/>
              </a:rPr>
              <a:t>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3520" y="8686800"/>
            <a:ext cx="6440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5360" y="8937720"/>
            <a:ext cx="2858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59240" y="7175520"/>
            <a:ext cx="10965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.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5240" y="6283440"/>
            <a:ext cx="1685880" cy="64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27200" y="6302520"/>
            <a:ext cx="1816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9440" y="8991720"/>
            <a:ext cx="57002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AK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51680" y="8983800"/>
            <a:ext cx="494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24080" y="7095960"/>
            <a:ext cx="902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-272880" y="-217440"/>
          <a:ext cx="7394400" cy="956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2880" y="-217440"/>
                    <a:ext cx="7394400" cy="956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89360" y="1219320"/>
            <a:ext cx="112273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FI01-**-C 7623                                                                                 1 JUN **                PRC 0172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CONTRACTING &amp;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 INF                                                                                                                                                                              X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640" y="2238480"/>
            <a:ext cx="5000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NSON PARTS &amp; SUPPLIES                                                                                        13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123 CONSTELLATION BLVD.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VANNAH, GA 31318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600" y="3144960"/>
            <a:ext cx="4881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LOGISTICS DIVISION              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300                                                                                       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8                         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800" y="3833640"/>
            <a:ext cx="2833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4705200"/>
            <a:ext cx="345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03-3116 117096.Z0-26EB W91INF*1527623/BNBA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" y="5430960"/>
            <a:ext cx="6604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         CARBURATOR, 2 BARREL, MODEL 14235                                                5            EA                 $129.95               $649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2         DRIVE SHAFT, MODEL 12907                                                                      2            EA                 $199.95                $399.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3         BRAKE SHOES, STANDARD, FORD, MODEL 51423                              10            EA                  $45.85                 $458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4         BRAKE PADS, STANDARD FORD, MODEL 51324                                   10           EA                   $39.95                $399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5         WATER PUMP, MODEL 61423                                                                      3            EA                   $94.75                $284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4600" y="6991200"/>
            <a:ext cx="8427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2,191.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7920" y="9001080"/>
            <a:ext cx="288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9120" y="7245360"/>
            <a:ext cx="954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6553080"/>
            <a:ext cx="1447920" cy="408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6494400"/>
            <a:ext cx="1717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0840" y="8991720"/>
            <a:ext cx="65926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AK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87720" y="7095960"/>
            <a:ext cx="902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4T14:53:30Z</dcterms:created>
  <dc:creator>Soldier Support Institute</dc:creator>
  <dc:description/>
  <dc:language>en-US</dc:language>
  <cp:lastModifiedBy>Administrator</cp:lastModifiedBy>
  <cp:lastPrinted>2000-02-25T20:45:24Z</cp:lastPrinted>
  <dcterms:modified xsi:type="dcterms:W3CDTF">2004-09-21T21:17:39Z</dcterms:modified>
  <cp:revision>15</cp:revision>
  <dc:subject>COMMERCIAL ACCOUNTS</dc:subject>
  <dc:title>PE COVER SHEET</dc:title>
</cp:coreProperties>
</file>